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6D41-7C9C-4B76-BDE9-FC5AE3AAA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this website of a medical illustrator on December 6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 -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 - solid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- transforms 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- soluble was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79A-923F-45C3-8431-AFDD51CC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A70-AC08-4638-9F2B-39378643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970-F2C7-4C3A-B0DB-0B356E85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A2E-0E8D-4895-ACDC-6A4C0EF4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31A-3A15-4606-A40D-40260923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329-DF8C-40C8-98A2-E1468684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E12-C74A-49BA-ADC0-F02EC645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ED0-796C-445B-9DE3-7F0B8C10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A6B-E84E-41E0-B8A1-D8DF32D2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52D-BD21-4F3E-BB41-92EB842F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FCF-81DE-4025-88AD-6165985E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1AD-6162-4F04-B224-8AA26502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DEF9-4DF4-4933-BD63-DEF3B6623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khanacademy.org/video/the-kidney-and-nephron?playlist=Biology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z98WIeNtj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taining An Intern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3 &amp; 7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82920" y="609480"/>
            <a:ext cx="4176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ructure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yalemedicalgroup.org/stw/Page.asp?PageID=STW02898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u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l pel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2147760"/>
            <a:ext cx="38098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Kiwi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s from: http://drawbones.com/2009/01/dissection-of-the-kidney-kiwi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29040" y="19810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Kiwi Dis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h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nctional unit of the kidney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bout 1 million nephrons in each 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52680" y="609480"/>
            <a:ext cx="6037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hrons - Blood F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previous slide from: http://www.kidneyadvice.net/kidney%20disorders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lows from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erent arterio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merul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rent arteri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erent arterioles branch in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tub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lla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wrap around the kidney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lows out through branches of the renal v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52680" y="609480"/>
            <a:ext cx="6037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hrons - Urine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rom the glomerulus is filtered and the liquid enter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wman’s caps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ximal tub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carries urine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al tub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n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ng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lecting ducts merge in the renal pel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52680" y="609480"/>
            <a:ext cx="6037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cartoonstudio.co.uk/Pages/kmeters1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ng waste is important for all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24200" y="3124080"/>
            <a:ext cx="5141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01680" y="609480"/>
            <a:ext cx="6740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51040" y="609480"/>
            <a:ext cx="564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lin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mages on previous slides from: http://kcfac.kilgore.cc.tx.us/mobleypageap1/quizzes_and_downloads.htm and http://www.medical-illustrations.ca/1010-kidney-nephron-diagram/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an academy…this video starts off with the structure of the kidney &amp; nephron, then goes into detail about the formation of urine (covered in 7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hanacademy.org/video/the-kidney-and-nephron?playlist=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stant contact with ex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simple methods of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balance is often maintain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actile vacu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4z98WIeNtj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pecialized cells for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s from other cells must be transported to the specialize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W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odies eliminate wastes through various org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gs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intestine (solid was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 (transforms toxins for remov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s (soluble was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rina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38098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academic.kellogg.edu/herbrandsonc/bio201_mckinley/Urinary%20System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l Blood Flow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revolutionhealth.com/articles/blood-supply-to-the-kidneys/tp130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is brought to the kidneys by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ed blood leaves the kidneys throug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2795760"/>
            <a:ext cx="38098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rina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s can hold up to 25% of the body’s blood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s filter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e (with wastes and toxins) is conducted to the bladder throug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rinary Syste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next slide from: http://en.wikipedia.org/wiki/Urinary_sys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tch receptors in the bladder send signals to the brain, which sends signals to the urinary sphincter muscle at the base of the bladder to rel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e exits the bladder throug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eth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1:19:22Z</dcterms:created>
  <dc:creator>rubina khan</dc:creator>
  <dc:description/>
  <dc:language>en-US</dc:language>
  <cp:lastModifiedBy>rubina khan</cp:lastModifiedBy>
  <dcterms:modified xsi:type="dcterms:W3CDTF">2011-12-07T10:48:18Z</dcterms:modified>
  <cp:revision>139</cp:revision>
  <dc:subject/>
  <dc:title>Maintaining An Internal Balance</dc:title>
</cp:coreProperties>
</file>